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27B-C066-4222-8EC1-B2719DC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130-1246-4166-9230-FCCF93A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D94-34EE-44CE-877E-4BA7EC2D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BF3-B635-4451-B37B-53178482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8F49-9458-45A0-9E1F-732B3564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49FA-97B4-4F91-8185-670E5165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AAA8-1C32-4A5E-A76B-A3D1C944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5EE3-1EDD-4F8E-BE01-573FA18A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6569-4BC4-4074-94F2-85D8AE48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9B17-D9CB-4211-A076-A7DA3DE8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86DF-5273-4E3E-B29C-9BECCC3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4B6-52E7-49B4-B536-9EA7A39B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0BE1-EC77-4577-BA08-CD138700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A228-B281-4DBA-80BA-D50FD67E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0739-A866-4AA9-AD2D-34A09C3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9019-7C47-4A16-9C61-6716C368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67EA-890E-444A-84CA-B637DD07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F53-E5F5-42F2-A7E3-CFA8B4A1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129-B668-484A-9CC4-38905B21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91D-71CE-41A2-AD8D-2366D675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032-25F2-42A1-B172-BFCC6062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AC7-E184-4A80-BFB6-46D84A9A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C8B-0194-471B-BEB0-79690EC5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001-46DE-466F-9B6D-9799D03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C8B-C3B4-4576-A88D-E48BDBF2699B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3191-B1AF-484C-944C-5208B8B15BCD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848360" cy="1828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b100d"/>
                </a:solidFill>
                <a:latin typeface="Century Gothic"/>
              </a:rPr>
              <a:t>Severe Bleeding</a:t>
            </a:r>
            <a:endParaRPr b="0" lang="en-US" sz="66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124080" cy="311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046"/>
                </a:solidFill>
                <a:latin typeface="Century Gothic"/>
              </a:rPr>
              <a:t>Three ways to control severe bleeding</a:t>
            </a:r>
            <a:endParaRPr b="0" lang="en-US" sz="36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Apply direct pressure to the wound to stop or slow blood loss.Place a clean cloth over the wound and press on it. Add more cloth if needed but don’t remove the first one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Put direct pressure on the main artery leading to the wound with the same amount of pressure on the wound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Raise the bleeding body part above the persons heart unless the person has a broken bone.When the bleeding has stopped, cover the wound to prevent infection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48Z</dcterms:created>
  <dc:creator>Kraybill Campus LMS</dc:creator>
  <dc:description/>
  <dc:language>en-US</dc:language>
  <cp:lastModifiedBy>Kraybill Campus LMS</cp:lastModifiedBy>
  <dcterms:modified xsi:type="dcterms:W3CDTF">2011-05-24T13:11:29Z</dcterms:modified>
  <cp:revision>9</cp:revision>
  <dc:subject/>
  <dc:title>Severe Bleeding</dc:title>
</cp:coreProperties>
</file>